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54A5-9CB9-4A13-9227-08C34D246EDC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5992-3F64-47FA-8232-E8E205AD8A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0775-E19F-451F-8F4B-D02FBF247D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8C5A-841D-43AA-AF3A-7871A858C2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45BE-8848-4701-8312-8227E1C581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7581-D4DB-49DC-B982-BD93835A0E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F808-C40F-4639-9982-D3B28AA5C8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7ED7-BA9C-47C5-955D-46B2FABA00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65C4-B17C-4AF7-AEC4-9420838898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FD86-8728-4E5C-A412-43D6F2C860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1DC4-DAF8-4F88-BDE5-2430D93F15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54BB-7F1B-4246-A6A7-3EACD33188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7E38-5DEF-465E-88D3-DAE4642034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8772-1FCD-4122-8CA1-FC7A9FC6B8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ECCA-7207-4650-951C-14D7479C07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ECA1-6A96-48DE-83CA-B95AAAC7C0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391E-D03A-47B2-8ABB-0705DB74D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CEA3-732B-4B54-8B32-0CAA103C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B893E-2330-4303-B77C-6C479B84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35799-9BA5-4A32-8874-DD5B1B6F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5DE8C-0EEF-46EC-AFAE-8BB611D2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63D7F-4C07-4E1C-BB90-5D4580C6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25062-C576-4D99-AD50-3EED1CFC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53E91-A2DA-418E-8091-55C92BA2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57856-5158-45C9-9306-02F85922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09986-C8E6-4EC4-BFC7-1B0247576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10EBC-69E0-4E93-AB70-0E213C7C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237E0-E1DA-4B52-8546-0775458A4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DBB0-0DFB-4387-90C4-F7D5C5FD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2332F-BE4A-4B5B-97D3-1C010B9F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A0675-0326-47AE-9115-8BFA5C99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0B643-4D63-4A03-B066-6728E962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7F0F4-5D6D-4E5E-B83F-5A40AC78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E83A5-068C-4B91-9FF1-6435F1E4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EF69C-CF64-4872-BEF4-CBBC8331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DFA26-11C3-40E2-8AF9-10727B5C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91F29-607A-4408-95CD-3EB24090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EB7171-C9D7-421A-8671-F1E09B03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06959-5785-4625-BA89-2185714F8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8264-4FAC-428C-8909-8F900F0F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64E766-D8E5-4213-B028-F0944B31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61508-523E-444A-A9A9-92C2F98DC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38A6D-E22D-4937-A6D9-10629C91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E3364-6CEB-44CC-955F-19C508E4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4B26C-CFDD-4AC2-93AE-1E01DD72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8B693-4366-48D3-8557-21D43FA2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818E5-8989-4739-B29D-9E47A186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A1A3E-5A7F-4283-9CEA-D625B84B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1EAC2-8FE2-4A6B-8E80-21B46FCA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B5ED3-A5A9-4A5C-8860-BB660C82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B72D-0849-4DB5-A4F5-01491475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3217E-28D7-458D-AEFF-1A8E6844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1E0C7-4415-486C-B423-01952A42B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8AFA9-0DEB-4B4A-8282-7145CBD5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374B-4293-464B-B7F0-441632F4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857B-1FA6-4A4F-A061-C7E54CC8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5557-9034-4A4E-BF21-AA4444B9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D7C8-5047-4B30-8472-3FC62E15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810F-1864-4622-9453-B533073E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24DF-014E-427F-9D6B-7BE2EF34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9D54-DB66-4706-ADE6-0857BCC3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C8F5-EA3E-491D-A6B3-FE9F55F2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84E3-3B33-42FB-A64A-007A5B08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2768-B023-44B3-A26C-155DE320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B5C2-D7EC-4914-AD8A-D44A6233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B874-CF33-4F01-AA63-0CB6475E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FF2B2-90F9-410D-B113-9AD7A7F0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E2966-C3DB-42D0-9DCF-1A125259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7A4E1-9A0D-4E35-A9C0-61288894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F8877-9447-4E61-B843-F98B0656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985A3-CAF0-4B4A-9BF3-D7120878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B508-7E7F-4144-BAD5-BF2DD6CF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A9130-C6E2-4058-8720-A1B6E9DF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F9522-B994-47EE-AD28-95C5E754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7A47B-ED07-4478-9793-C48EAE62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7A16A-C500-4A41-BDB7-7AD876B3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824C3-8D07-4DF3-B8A4-30BB752A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A4848-D2FD-4FA3-B95D-4F8911D2D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683C5-B367-4B7B-A4A0-561EB9025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EF71D-2DCA-478D-AFD5-D2FBF2AB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DB68A-8A6F-4A9A-BA63-BF5369BC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3A300-E72F-4247-924D-A7F011ED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32D9-9BA8-4C47-B1F3-63413899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05968-FC1C-4F9F-B891-E411D832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30195-DD09-4F60-8B58-5860F8BC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2B2E2-0D3F-48A1-BD03-460516A1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F0E50-4CBA-46C7-9C2E-80D2C7B3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56384-1E3A-4BEC-B4A8-4C20A3D9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9188C-1DB4-4042-9F07-B3881698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86C1F-4547-435F-A922-45D2BFC1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8E12F-580B-4524-BC74-CB690DF7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0BEFF-B3D6-4D75-91B5-D302F4EA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E0EEF-FA3F-40C3-B6DE-63586BFEA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3CC5-C501-40F8-A6BD-C5508A38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5BCFE-5C63-4979-8C59-CEBC5227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2795A-BD7C-416F-8D29-EEA2586E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47331-FBB2-4424-96FB-444D9DBD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EB2F2-F440-4C12-A68C-E619DA61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58221-ACCD-43A3-88FD-F337E37B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23252-6C31-4BD7-B4DF-D1104832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116BC-3DC6-4DFC-935C-729E892C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90199-0658-477B-8F6A-7C47FE8D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C741C-201B-4441-957E-2C99BA29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5B5E9-B6E2-4E25-BB4A-92221C0C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735B-9537-4D3E-B32E-A307B1A4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44DE2-E9B8-4C55-B802-5B38B3C1A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08882-826B-4383-A17A-E769C587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D80A0-D712-4B01-8498-6985B877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E0368-104C-49F7-A58E-BB52E621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4248E-8C59-467D-B31A-443F853E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14244-8AD8-4625-AF1C-5741D033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CEDDF-5557-486E-8BD9-1C2F5515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F0BEA-73EC-4229-AC69-879CBF6C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809CB-1B08-4A19-90FF-98BB209C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F1B72-ABD7-4087-8EB3-B448AD75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6D79-C84D-4FDE-B47F-D12C1E19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A350A-F850-4978-A8A4-C7E64EA0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37C86-74A7-4C6E-81D8-B5FB43DDF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B2FFE-19A0-4574-8926-37B2AE597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74989-9A92-4F61-AFB2-A85592D2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2F1E2-5F5B-4D13-9C8C-8B2ECA13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F05BD-D43B-4C2F-9DCE-3406773D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82CDF-4F12-4F7F-8E29-515B8625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30827-6D18-4416-883F-147F8162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A65DA-9ACB-42D2-8D9B-88F385E0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5607E-5368-42AD-A871-505FD1A4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74D3-E4CC-4C39-9DEA-C609B1F2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C1EC3-C31F-4EEB-8F24-516B73C0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B9F3F-7725-4323-ADA2-EC217B8D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23F93-6638-40DE-9C5A-D859CFF9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03DD0-7CA2-4A3A-AD7D-B0DD0D6DB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21AB6-D8FA-4D8C-A538-FA06C2969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07617-D432-4DD5-9F10-9C32E143C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B7EE5-E333-4D14-8F0D-D85F58D8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58330-2C42-4FF0-8086-18771743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15773-198B-48E5-8175-E7AACA5A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D1260-4955-4EF5-895B-DAD402BA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122D-FFD6-4D76-B53C-0B3B87B9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5405B-1A36-4999-A81A-EBF49725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AFF18-94C8-44A5-9535-F7328342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16561-0003-4BF0-B5A5-D16D07BD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4F771-E260-4368-A4C4-21684FA1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679D0-8E4C-47B3-BF62-6274D814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9DA97-7266-45F0-A65D-37056CF7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21E6C-9D94-4F8F-BB11-0739546BE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A8858-BCA8-4FD0-9476-ECBE30F2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83973-58C4-4DA9-A9C8-F950E562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79DC9-675B-494B-B5E5-BBDD33F6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6831-667E-46B8-9FCA-97AFD034CEC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EB8F061-50F9-49ED-81FD-01731755F395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9AC1-D6DF-4EFD-B142-7579F634577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2D1154B-AAA1-4769-8E03-5374869AFF51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06CD-B900-4E56-BA2D-7DDF7F91FD5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F456B4B-5104-4E99-8C6F-9EF4C3BF070E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EDC0-93B9-47E8-9138-619F3CEDBF8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A7FF051-BC31-4A31-9E29-8AEEA5A71CFA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0B1A-E8A9-4353-84DF-7B3767215FE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72E7FF6-0FA0-4C8C-A994-E2F5AB7E1EF0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EE47-A478-4260-B700-22926DCEE06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892641B-1047-4494-8C7E-712151209FF5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0964-A8FD-42B6-BE38-ED607C94990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077A14B-BB49-411E-BEF0-83BA95AB0E8C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5044-4E67-4D81-A9DE-E4201A8CF3D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A2715E7-0B24-43A2-BF76-1A9ECF0141B7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E916-1D06-46C3-9E43-5C4AB6E675B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83CD41A-FBCF-4C6F-ABC8-44E16F274C3D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3D09-7959-4EB6-8862-8E2CEE8793E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C641EE2-8A86-4445-BC63-A06375A81BAF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B145-82E8-4708-A485-CFCF3B7833D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7941361-7820-4236-8329-627C8AC5E59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5"/>
          <p:cNvSpPr/>
          <p:nvPr/>
        </p:nvSpPr>
        <p:spPr>
          <a:xfrm>
            <a:off x="214200" y="3789360"/>
            <a:ext cx="87156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9" name="Picture 6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1476360" y="2495520"/>
            <a:ext cx="56577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RUSSIAN BANKING SYSTEM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N CURRENT ENVIRON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67200" y="4221000"/>
            <a:ext cx="30096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Oleg M. Preks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Vice-Presid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ssociation of Russian Bank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8 June 200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Monte Carl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79280" y="54936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ssian banking system still falls behind despite the rapid growth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DEE9-4C7B-48E0-A210-3679BB1678AD}" type="slidenum">
              <a:rPr b="0" lang="en-US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7" name="Диаграмма 3" descr=""/>
          <p:cNvPicPr/>
          <p:nvPr/>
        </p:nvPicPr>
        <p:blipFill>
          <a:blip r:embed="rId2"/>
          <a:stretch/>
        </p:blipFill>
        <p:spPr>
          <a:xfrm>
            <a:off x="142920" y="1557360"/>
            <a:ext cx="5143320" cy="4443480"/>
          </a:xfrm>
          <a:prstGeom prst="rect">
            <a:avLst/>
          </a:prstGeom>
          <a:ln w="0">
            <a:noFill/>
          </a:ln>
        </p:spPr>
      </p:pic>
      <p:pic>
        <p:nvPicPr>
          <p:cNvPr id="498" name="Диаграмма 4" descr=""/>
          <p:cNvPicPr/>
          <p:nvPr/>
        </p:nvPicPr>
        <p:blipFill>
          <a:blip r:embed="rId3"/>
          <a:stretch/>
        </p:blipFill>
        <p:spPr>
          <a:xfrm>
            <a:off x="5429160" y="1557360"/>
            <a:ext cx="3571920" cy="4443480"/>
          </a:xfrm>
          <a:prstGeom prst="rect">
            <a:avLst/>
          </a:prstGeom>
          <a:ln w="0">
            <a:noFill/>
          </a:ln>
        </p:spPr>
      </p:pic>
      <p:sp>
        <p:nvSpPr>
          <p:cNvPr id="499" name="TextBox 5"/>
          <p:cNvSpPr/>
          <p:nvPr/>
        </p:nvSpPr>
        <p:spPr>
          <a:xfrm>
            <a:off x="142920" y="600552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st growing assets means that aggressive lending policy &amp; poor risk management may be in place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growth of past due loans will become a problem for banks’ equity in coming month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D611-BA0F-447E-ACD9-CC808D5007EB}" type="slidenum">
              <a:rPr b="0" lang="en-US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2" name="Диаграмма 3" descr=""/>
          <p:cNvPicPr/>
          <p:nvPr/>
        </p:nvPicPr>
        <p:blipFill>
          <a:blip r:embed="rId2"/>
          <a:stretch/>
        </p:blipFill>
        <p:spPr>
          <a:xfrm>
            <a:off x="-66600" y="0"/>
            <a:ext cx="921708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scow Still Well Behind Other Financial Cent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046FB6E-AA58-4883-B97F-768E66528CD7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5" name="Содержимое 4" descr=""/>
          <p:cNvPicPr/>
          <p:nvPr/>
        </p:nvPicPr>
        <p:blipFill>
          <a:blip r:embed="rId2"/>
          <a:stretch/>
        </p:blipFill>
        <p:spPr>
          <a:xfrm>
            <a:off x="0" y="150012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506" name="Содержимое 4" descr=""/>
          <p:cNvPicPr/>
          <p:nvPr/>
        </p:nvPicPr>
        <p:blipFill>
          <a:blip r:embed="rId3"/>
          <a:stretch/>
        </p:blipFill>
        <p:spPr>
          <a:xfrm>
            <a:off x="0" y="4357800"/>
            <a:ext cx="9144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0543C0F-805C-4EFD-9BA2-99F6D100DAD0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8" name="Picture 2" descr="mosmap5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92360" y="1628640"/>
            <a:ext cx="6264360" cy="504828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ut Stands for an International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nancial Center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the New Global Environ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Text Box 26"/>
          <p:cNvSpPr/>
          <p:nvPr/>
        </p:nvSpPr>
        <p:spPr>
          <a:xfrm>
            <a:off x="250920" y="4437000"/>
            <a:ext cx="4248000" cy="9352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is the third city in the world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y its budget performan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$ 40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ln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 Box 27"/>
          <p:cNvSpPr/>
          <p:nvPr/>
        </p:nvSpPr>
        <p:spPr>
          <a:xfrm>
            <a:off x="4716360" y="4437000"/>
            <a:ext cx="4248360" cy="935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living costs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lud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dg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re the highest among world capital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 Box 28"/>
          <p:cNvSpPr/>
          <p:nvPr/>
        </p:nvSpPr>
        <p:spPr>
          <a:xfrm>
            <a:off x="250920" y="5516640"/>
            <a:ext cx="4248000" cy="10810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is in Top-5 financial centers to become more important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short term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 Box 29"/>
          <p:cNvSpPr/>
          <p:nvPr/>
        </p:nvSpPr>
        <p:spPr>
          <a:xfrm>
            <a:off x="186840" y="6583320"/>
            <a:ext cx="537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Источники: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ant Thornton 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Z/Yen Group,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Mercer Human Resource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onsulting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 Box 30"/>
          <p:cNvSpPr/>
          <p:nvPr/>
        </p:nvSpPr>
        <p:spPr>
          <a:xfrm>
            <a:off x="4716360" y="5516640"/>
            <a:ext cx="4248360" cy="10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ranks 5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national financial center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5" name="Object 4" descr=""/>
          <p:cNvPicPr/>
          <p:nvPr/>
        </p:nvPicPr>
        <p:blipFill>
          <a:blip r:embed="rId3"/>
          <a:stretch/>
        </p:blipFill>
        <p:spPr>
          <a:xfrm>
            <a:off x="0" y="1571760"/>
            <a:ext cx="914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F092659-3D77-4D58-8522-721372F1E891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teps by the State to Facilitate IFC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8" name="Pyr4"/>
          <p:cNvGrpSpPr/>
          <p:nvPr/>
        </p:nvGrpSpPr>
        <p:grpSpPr>
          <a:xfrm>
            <a:off x="189000" y="4834080"/>
            <a:ext cx="8759880" cy="1920600"/>
            <a:chOff x="189000" y="4834080"/>
            <a:chExt cx="8759880" cy="1920600"/>
          </a:xfrm>
        </p:grpSpPr>
        <p:pic>
          <p:nvPicPr>
            <p:cNvPr id="519" name="Pyr4" descr=""/>
            <p:cNvPicPr/>
            <p:nvPr/>
          </p:nvPicPr>
          <p:blipFill>
            <a:blip r:embed="rId2"/>
            <a:stretch/>
          </p:blipFill>
          <p:spPr>
            <a:xfrm>
              <a:off x="189000" y="4834080"/>
              <a:ext cx="8759880" cy="19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1565280" y="4913280"/>
              <a:ext cx="561168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1" name="Pyr3"/>
          <p:cNvGrpSpPr/>
          <p:nvPr/>
        </p:nvGrpSpPr>
        <p:grpSpPr>
          <a:xfrm>
            <a:off x="1487520" y="3249720"/>
            <a:ext cx="6162480" cy="1560240"/>
            <a:chOff x="1487520" y="3249720"/>
            <a:chExt cx="6162480" cy="1560240"/>
          </a:xfrm>
        </p:grpSpPr>
        <p:pic>
          <p:nvPicPr>
            <p:cNvPr id="522" name="Pyr3" descr=""/>
            <p:cNvPicPr/>
            <p:nvPr/>
          </p:nvPicPr>
          <p:blipFill>
            <a:blip r:embed="rId3"/>
            <a:stretch/>
          </p:blipFill>
          <p:spPr>
            <a:xfrm>
              <a:off x="1487520" y="3249720"/>
              <a:ext cx="6162480" cy="15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3029040" y="3317760"/>
              <a:ext cx="30859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4" name="Text Box 20"/>
          <p:cNvGrpSpPr/>
          <p:nvPr/>
        </p:nvGrpSpPr>
        <p:grpSpPr>
          <a:xfrm>
            <a:off x="1427040" y="3121200"/>
            <a:ext cx="6558120" cy="1658880"/>
            <a:chOff x="1427040" y="3121200"/>
            <a:chExt cx="6558120" cy="1658880"/>
          </a:xfrm>
        </p:grpSpPr>
        <p:pic>
          <p:nvPicPr>
            <p:cNvPr id="525" name="Text Box 20" descr=""/>
            <p:cNvPicPr/>
            <p:nvPr/>
          </p:nvPicPr>
          <p:blipFill>
            <a:blip r:embed="rId4"/>
            <a:stretch/>
          </p:blipFill>
          <p:spPr>
            <a:xfrm>
              <a:off x="1427040" y="3121200"/>
              <a:ext cx="655812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1476360" y="3213000"/>
              <a:ext cx="614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RF Government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ditioning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ositive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xpectations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ith the professional communit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7" name="Pyr2"/>
          <p:cNvGrpSpPr/>
          <p:nvPr/>
        </p:nvGrpSpPr>
        <p:grpSpPr>
          <a:xfrm>
            <a:off x="2567160" y="1822320"/>
            <a:ext cx="4005000" cy="1401840"/>
            <a:chOff x="2567160" y="1822320"/>
            <a:chExt cx="4005000" cy="1401840"/>
          </a:xfrm>
        </p:grpSpPr>
        <p:pic>
          <p:nvPicPr>
            <p:cNvPr id="528" name="Pyr2" descr=""/>
            <p:cNvPicPr/>
            <p:nvPr/>
          </p:nvPicPr>
          <p:blipFill>
            <a:blip r:embed="rId5"/>
            <a:stretch/>
          </p:blipFill>
          <p:spPr>
            <a:xfrm>
              <a:off x="2567160" y="1822320"/>
              <a:ext cx="40050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3668760" y="1887480"/>
              <a:ext cx="18050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0" name="Text Box 21"/>
          <p:cNvSpPr/>
          <p:nvPr/>
        </p:nvSpPr>
        <p:spPr>
          <a:xfrm>
            <a:off x="2806560" y="2055960"/>
            <a:ext cx="36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RF Presid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rective on develop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FC in Russ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Text Box 24"/>
          <p:cNvSpPr/>
          <p:nvPr/>
        </p:nvSpPr>
        <p:spPr>
          <a:xfrm>
            <a:off x="793800" y="4862520"/>
            <a:ext cx="756108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inistry of economic develop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pt of developing an IFC in Russia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ailed action plan of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ing an IFC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5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ock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ssia Takes Substantial Measur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 Support the Econom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3" name="Содержимое 4" descr=""/>
          <p:cNvPicPr/>
          <p:nvPr/>
        </p:nvPicPr>
        <p:blipFill>
          <a:blip r:embed="rId2"/>
          <a:stretch/>
        </p:blipFill>
        <p:spPr>
          <a:xfrm>
            <a:off x="0" y="1643040"/>
            <a:ext cx="4572000" cy="5214960"/>
          </a:xfrm>
          <a:prstGeom prst="rect">
            <a:avLst/>
          </a:prstGeom>
          <a:ln w="0">
            <a:noFill/>
          </a:ln>
        </p:spPr>
      </p:pic>
      <p:sp>
        <p:nvSpPr>
          <p:cNvPr id="464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FE6E683-9DE7-4B71-A5B8-F488D7D48F1F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5" name="Содержимое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4572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dget Deficit &amp; Government Deb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3DA6040-A5B7-4740-8452-2A25482D6F7C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Содержимое 4" descr=""/>
          <p:cNvPicPr/>
          <p:nvPr/>
        </p:nvPicPr>
        <p:blipFill>
          <a:blip r:embed="rId2"/>
          <a:stretch/>
        </p:blipFill>
        <p:spPr>
          <a:xfrm>
            <a:off x="0" y="1500120"/>
            <a:ext cx="5572080" cy="4572000"/>
          </a:xfrm>
          <a:prstGeom prst="rect">
            <a:avLst/>
          </a:prstGeom>
          <a:ln w="0">
            <a:noFill/>
          </a:ln>
        </p:spPr>
      </p:pic>
      <p:pic>
        <p:nvPicPr>
          <p:cNvPr id="469" name="Содержимое 4" descr=""/>
          <p:cNvPicPr/>
          <p:nvPr/>
        </p:nvPicPr>
        <p:blipFill>
          <a:blip r:embed="rId3"/>
          <a:stretch/>
        </p:blipFill>
        <p:spPr>
          <a:xfrm>
            <a:off x="5429160" y="1500120"/>
            <a:ext cx="3714840" cy="450072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6"/>
          <p:cNvSpPr/>
          <p:nvPr/>
        </p:nvSpPr>
        <p:spPr>
          <a:xfrm>
            <a:off x="0" y="6140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nlike the other countries Russia is going not to sell it’s debt to the market, but to cover it from international reserv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employment Rate,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%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f Labor For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E0B2DEF-261F-4964-821C-5AFF128CCA98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Содержимое 4" descr=""/>
          <p:cNvPicPr/>
          <p:nvPr/>
        </p:nvPicPr>
        <p:blipFill>
          <a:blip r:embed="rId2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ussia Boosts Target Rate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ile the Others Cut I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C781C70-CF6F-4FE7-8BDA-459B52FB9A80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6" name="Диаграмма 4" descr=""/>
          <p:cNvPicPr/>
          <p:nvPr/>
        </p:nvPicPr>
        <p:blipFill>
          <a:blip r:embed="rId2"/>
          <a:stretch/>
        </p:blipFill>
        <p:spPr>
          <a:xfrm>
            <a:off x="5857920" y="1643040"/>
            <a:ext cx="3286080" cy="4429080"/>
          </a:xfrm>
          <a:prstGeom prst="rect">
            <a:avLst/>
          </a:prstGeom>
          <a:ln w="0">
            <a:noFill/>
          </a:ln>
        </p:spPr>
      </p:pic>
      <p:pic>
        <p:nvPicPr>
          <p:cNvPr id="477" name="Содержимое 4" descr=""/>
          <p:cNvPicPr/>
          <p:nvPr/>
        </p:nvPicPr>
        <p:blipFill>
          <a:blip r:embed="rId3"/>
          <a:stretch/>
        </p:blipFill>
        <p:spPr>
          <a:xfrm>
            <a:off x="0" y="1600200"/>
            <a:ext cx="8543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financing Cos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9" name="Содержимое 4" descr=""/>
          <p:cNvPicPr/>
          <p:nvPr/>
        </p:nvPicPr>
        <p:blipFill>
          <a:blip r:embed="rId2"/>
          <a:stretch/>
        </p:blipFill>
        <p:spPr>
          <a:xfrm>
            <a:off x="0" y="1571760"/>
            <a:ext cx="8929800" cy="4429080"/>
          </a:xfrm>
          <a:prstGeom prst="rect">
            <a:avLst/>
          </a:prstGeom>
          <a:ln w="0">
            <a:noFill/>
          </a:ln>
        </p:spPr>
      </p:pic>
      <p:sp>
        <p:nvSpPr>
          <p:cNvPr id="480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B13E64D-0BE7-48B4-B047-C0F1C622A48E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Заголовок 1"/>
          <p:cNvSpPr/>
          <p:nvPr/>
        </p:nvSpPr>
        <p:spPr>
          <a:xfrm>
            <a:off x="285840" y="5994360"/>
            <a:ext cx="83581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countries keep the real target rate in negative zone in order to stimulate the econom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Содержимое 5" descr=""/>
          <p:cNvPicPr/>
          <p:nvPr/>
        </p:nvPicPr>
        <p:blipFill>
          <a:blip r:embed="rId2"/>
          <a:stretch/>
        </p:blipFill>
        <p:spPr>
          <a:xfrm>
            <a:off x="142920" y="1571760"/>
            <a:ext cx="5214960" cy="4143240"/>
          </a:xfrm>
          <a:prstGeom prst="rect">
            <a:avLst/>
          </a:prstGeom>
          <a:ln w="0">
            <a:noFill/>
          </a:ln>
        </p:spPr>
      </p:pic>
      <p:sp>
        <p:nvSpPr>
          <p:cNvPr id="483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EB26E4B-AD5C-4D06-85E1-17740B2C814D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5424480" y="1643040"/>
          <a:ext cx="3571920" cy="3541680"/>
        </p:xfrm>
        <a:graphic>
          <a:graphicData uri="http://schemas.openxmlformats.org/drawingml/2006/table">
            <a:tbl>
              <a:tblPr/>
              <a:tblGrid>
                <a:gridCol w="1638360"/>
                <a:gridCol w="1933560"/>
              </a:tblGrid>
              <a:tr h="590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 activity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n. Rub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banks October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 350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erbank Octo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 94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bank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- 11 (</a:t>
                      </a: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net outflow</a:t>
                      </a: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erbank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+ 11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TB 2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+ 9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85" name="TextBox 9"/>
          <p:cNvSpPr/>
          <p:nvPr/>
        </p:nvSpPr>
        <p:spPr>
          <a:xfrm>
            <a:off x="5669640" y="5202360"/>
            <a:ext cx="337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olume of households’ deposit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s of 1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.01.2009 –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$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185</a:t>
            </a:r>
            <a:r>
              <a:rPr b="1" lang="ru-RU" sz="1600" spc="-1" strike="noStrike">
                <a:solidFill>
                  <a:srgbClr val="262673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bln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ivate Deposit Activ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Прямоугольник 11"/>
          <p:cNvSpPr/>
          <p:nvPr/>
        </p:nvSpPr>
        <p:spPr>
          <a:xfrm>
            <a:off x="1285920" y="585792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anic with deposit withdrawal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been stopp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ble Exchange Rates Dynam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849C9EE-6D8D-4E9E-9A80-946837F92B9C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0" name="Диаграмма 7" descr=""/>
          <p:cNvPicPr/>
          <p:nvPr/>
        </p:nvPicPr>
        <p:blipFill>
          <a:blip r:embed="rId2"/>
          <a:stretch/>
        </p:blipFill>
        <p:spPr>
          <a:xfrm>
            <a:off x="-6480" y="1494000"/>
            <a:ext cx="5621400" cy="5010120"/>
          </a:xfrm>
          <a:prstGeom prst="rect">
            <a:avLst/>
          </a:prstGeom>
          <a:ln w="0">
            <a:noFill/>
          </a:ln>
        </p:spPr>
      </p:pic>
      <p:sp>
        <p:nvSpPr>
          <p:cNvPr id="491" name="Заголовок 1"/>
          <p:cNvSpPr/>
          <p:nvPr/>
        </p:nvSpPr>
        <p:spPr>
          <a:xfrm>
            <a:off x="5643720" y="2928960"/>
            <a:ext cx="3429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Bank of Russia managed to stabilize the ruble, announcing the new target USD-Euro basket rate = 40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in Lines to Fight the Cri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0F67625-6072-4A80-9554-AA4784C5D1BF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4" name="Схема 5" descr=""/>
          <p:cNvPicPr/>
          <p:nvPr/>
        </p:nvPicPr>
        <p:blipFill>
          <a:blip r:embed="rId2"/>
          <a:stretch/>
        </p:blipFill>
        <p:spPr>
          <a:xfrm>
            <a:off x="1725480" y="1504800"/>
            <a:ext cx="59612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7:11:56Z</dcterms:created>
  <dc:creator>Serge</dc:creator>
  <dc:description/>
  <dc:language>en-US</dc:language>
  <cp:lastModifiedBy>preksin_om</cp:lastModifiedBy>
  <dcterms:modified xsi:type="dcterms:W3CDTF">2009-06-18T06:27:33Z</dcterms:modified>
  <cp:revision>1205</cp:revision>
  <dc:subject/>
  <dc:title>Расширение кредитования – важнейший фактор экономического роста России </dc:title>
</cp:coreProperties>
</file>